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2330-B04E-471F-BBEE-F62074116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9397-FD2D-44F1-A4F0-149A539D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64E4-5229-4B46-A695-744939985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4A18-77B1-420A-8122-55BADEDFF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D6BD-976D-48EE-A13C-1DD7471B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F935-73E1-4C17-99BB-1E4C617D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C83C-1D1C-4025-B5C7-37A3DFEF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F437-6372-40C4-BB4F-69E7B612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D134-E0DF-40C5-8B29-58D187E5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0D04-E5AA-45CB-84F6-936DF557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4FFF-1549-4C27-9554-1887B8CC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9DB4-F8EA-4970-92D2-2DB10D36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BED2-0D1A-4514-B6E8-39E393809C57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use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由檔案讀取方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準備流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. Edit the “Makefile”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IG_EFUSE_CONFIG_FILE=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編譯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前，請先編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k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NFIG_EFUSE_CONFIG_FILE=n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改成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=y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再做編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動作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. Prepare efuse MAP directory and fil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準備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預設讀取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fuse map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fer the FileEfuseExamp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. /system/etc/wifi/wifi_efuse.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efuse map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alsil RF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工程師為客戶量出預設值給客戶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p 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放進客戶系統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B. /data/wifimac.t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wlan mac addres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客戶系統執行亂數產生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或是由客戶申請合法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產生此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l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05:49:50Z</dcterms:created>
  <dc:creator>Willistang</dc:creator>
  <dc:description/>
  <dc:language>en-US</dc:language>
  <cp:lastModifiedBy>Willistang</cp:lastModifiedBy>
  <dcterms:modified xsi:type="dcterms:W3CDTF">2012-11-28T11:23:16Z</dcterms:modified>
  <cp:revision>12</cp:revision>
  <dc:subject/>
  <dc:title>PowerPoint 簡報</dc:title>
</cp:coreProperties>
</file>